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2AB2-47AD-4059-B803-C0FBEE4E5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77D0-B791-45DE-BDBC-D30A09967F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14AD6-6972-4419-976A-4E4347714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A880-A1B1-43E1-8F43-4C62589A9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11D0-8A54-4319-90DD-ABA006177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ACE8F-CA48-43D0-AD1E-DE4477161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3EF3-6214-42EB-B5BF-EEB423E86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BC820-498F-4F72-8746-37ED63ECC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1F0A6-BF4E-47FA-BEF5-4A35A0DB7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6BDE1-600D-4280-8015-66095CC62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52C4-A113-481B-B4AB-467837C1B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53781-C951-4361-A374-5A6D6419E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CF819-552C-451B-BD76-322E3068DF74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Vertragsabschlüsse per Interne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llenserklärung zwischen Vertragspartn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schränkt geschäftsfähig ab 7 Jahr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(§108 BGB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Taschengeldparagraph (§ 110 BGB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ilt erst nach Geschäftsabschluss (Zahlu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ernabsatzgesetz (§ 35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derruf ohne Angabe von Gründen bis zu zwei Wochen nach Vertragsabschlu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as tun bei überraschenden Rechnungen, Abonnements etc.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bseite des Unternehm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lares Geschäftsmodell und Impressu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rreführende Angaben ausdru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ültigem Vertragsabschluss widerspre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chweis über erbrachte Leistung und den Vorgang des Vertragsabschlusses einford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gf. Anwalt für Verbraucherrecht einsc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45:32Z</dcterms:modified>
  <cp:revision>139</cp:revision>
  <dc:subject/>
  <dc:title>Folie 1</dc:title>
</cp:coreProperties>
</file>